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447-3A44-4871-BF3F-155FE67F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113-563E-4BE9-9DCF-777A8CE9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795-EF6D-45F2-8A96-7585151D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B74-3C92-4F91-A8B1-5C643734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DD5-380B-4296-8F7A-B4CB6278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F74-A4A9-4B89-8AF0-70BBA48D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20E-3CB5-44FF-90C7-064B3583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BFB-CCA3-412C-B3D0-85758B53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E66-661C-457E-8E9E-2211BF0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320-BA0C-4971-B4AB-A7B01AB4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E95-62B5-462C-B061-B7F83D0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417-05AD-4572-A7D5-9C34F3F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B7E-8C5F-4CE5-A63C-74F762A01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Decim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close enough is good enoug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752480"/>
            <a:ext cx="61722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asked to round to the nearest tenth…….your answer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stop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t the tenth pla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4876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Round 42.73 to the closest tenth would be 42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ase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a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438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nd 2.197 to the closes hundred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114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ce there is a “9” in the hundredths place consider the tenth and hundredths together – 19 – do you leave it at 19 or move it to 2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914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4.95 to the closest ten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98108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ce there is a “9” in the tenth spot consider the ones and tenths together…… should you leave it at 49 or move it to 5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87692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95 rounded to the nearest tenth is 5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86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to tent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505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0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267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029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029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2209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to hundred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505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7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3505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343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4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267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029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952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990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ly has $16 in her poc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0512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bu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hotdogs @ $1.89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milkshakes @ $2.19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Large French fries @ $ $1.79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4100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es she have enough mone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533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s costs $1.79 per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70866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running on empty and I have a 40 litre tank on my Car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ow much will it cost to fill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one hour to take a 50 question t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590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 how much time can you spend on each ques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4197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enough is good enoug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unding 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438280"/>
            <a:ext cx="7925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your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right next 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or less, just ign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or more add one mo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Whol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 474 to the closest hund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4191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7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1911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your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7242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right next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3928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or less, just ign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ve or more, add one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144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74 Rounded to the hundreds becomes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048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nd 474 to the closest 10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4267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7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1240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410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st ignore - 4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05120"/>
            <a:ext cx="3733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,2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7,5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3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decim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ame rules (and poem) appl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590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4.167 to the closest 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657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16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657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your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504960" y="4191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648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right next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4100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56:38Z</dcterms:created>
  <dc:creator>user</dc:creator>
  <dc:description/>
  <dc:language>en-US</dc:language>
  <cp:lastModifiedBy>nbdoe</cp:lastModifiedBy>
  <dcterms:modified xsi:type="dcterms:W3CDTF">2008-09-12T12:47:56Z</dcterms:modified>
  <cp:revision>7</cp:revision>
  <dc:subject/>
  <dc:title>Rounding Decimal Numbers</dc:title>
</cp:coreProperties>
</file>